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741-E721-4889-ABE4-3EA30F15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189-E62A-4F93-A027-E4504C3D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DCB-ECBB-4A7C-9410-7F4F1024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CC5-D342-49C0-9544-C8360A11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136-93EE-421F-BB6C-D6BDD18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9DB-C8C9-4E25-859C-1613554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9DC-4B34-4C60-8C53-70014CA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62E-54E5-4857-B90C-32D97501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E3B-C1F6-4167-A983-A5EC7A56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C1F-040D-4AB4-80F4-0C8F65A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5CA-09FF-46DF-BCB5-1D49619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A49-AFBC-46D7-A5FA-CFFD7CF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A8D8-D2BA-4983-9360-8199FA79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sson  21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Year Is I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2440" y="3038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五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160020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lo, My name is ______. I am ___ years old . My  year is the year of the 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my friend .His/Her name is ___.He/She  is ___ years old. His/Her year is the year of _____.He/She has ____. He/She likes to 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990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04480" y="304920"/>
            <a:ext cx="45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ten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449568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. Is Danny’s year the year of the c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How many animals are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00" y="312408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What  is Li Ming‘s yea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1981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le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50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 the story with your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71800" y="1143000"/>
            <a:ext cx="289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146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Ask your family members' years and write it dow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9400" y="1523880"/>
            <a:ext cx="512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the animal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China, years have names. The names ar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63560" cy="201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05720" y="2895480"/>
            <a:ext cx="2171520" cy="180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5112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010280" y="762120"/>
            <a:ext cx="1359000" cy="2082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286000" y="990720"/>
            <a:ext cx="2374920" cy="204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85800" y="2971800"/>
            <a:ext cx="1866960" cy="1930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666880" y="4800600"/>
            <a:ext cx="17654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3048120"/>
            <a:ext cx="1968480" cy="16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237492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514600" y="2971800"/>
            <a:ext cx="1866960" cy="203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495680" y="5181480"/>
            <a:ext cx="23749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5029200" y="990720"/>
            <a:ext cx="1359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1040" y="304920"/>
            <a:ext cx="55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a movie and order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760" y="6426360"/>
            <a:ext cx="1881360" cy="36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0" t="0" r="0" b="765"/>
          <a:stretch/>
        </p:blipFill>
        <p:spPr>
          <a:xfrm>
            <a:off x="914400" y="1143000"/>
            <a:ext cx="7229520" cy="4952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15880" y="333360"/>
            <a:ext cx="24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83720" y="1722600"/>
            <a:ext cx="46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 is your yea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124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___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124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year is the year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6360" y="3048120"/>
            <a:ext cx="10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58520" y="1828800"/>
            <a:ext cx="51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What is his/her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7180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/Her year is the year of the 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67120" y="533520"/>
            <a:ext cx="26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ir 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k and answer with your fri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5920" y="0"/>
            <a:ext cx="293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year? What about your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2286000"/>
          <a:ext cx="7467480" cy="373392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s of the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6T01:53:51Z</dcterms:created>
  <dc:creator>dell</dc:creator>
  <dc:description/>
  <dc:language>en-US</dc:language>
  <cp:lastModifiedBy>dell</cp:lastModifiedBy>
  <dcterms:modified xsi:type="dcterms:W3CDTF">2015-06-26T02:14:1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